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E834-24B2-4210-B025-F4BA3CB2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6D07-3976-4E3F-BEC5-BA72FD7D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AC77-1F6F-4860-8788-808DE7E6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FD928-5520-478D-9AE4-D7A1142A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F7D4-D7A5-4410-AE8D-BEB04F8D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72DC-F648-4E50-8549-20B4C00A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B279-B987-4A39-8D16-B74B65C4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95B2-1BB8-4A9B-80A6-F5AD2671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705A-B955-4397-A554-DE7FADA6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6368-691A-4BE0-9DF8-F78ED4FF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03E7-7DBF-430C-8D00-2A3DB750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4A89F-232F-4AC5-8772-E7AEE1E5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0CEF-55EE-45AA-8F50-010A7C05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7B29-5EFC-4927-A722-B75183DE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219D-D369-4320-8E61-039AF05D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3F5F-EEA5-4876-8E5A-CBDE7B6D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0469-4E63-4AC7-9C0B-452C4F5F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F46D4-F040-475C-AEAF-4B466240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0E865-F3CA-4B19-B226-14F67105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5108-5829-4E45-B0B6-1C24CADD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EEFE7-DC38-4066-9890-006D92BA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B1BBF-C88E-4CE5-929C-5D79F727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9B101-D2AF-428E-9632-BF6D2F79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49763-F1EE-4162-BA79-1F48C62F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C7B7-B468-47AB-B5E3-B4A898D4FA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EA60-C41C-41D1-8F59-07A2D5D553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ffine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CEA2-577A-456D-B1A2-4CD4CDCA89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5T01:05:49Z</dcterms:modified>
  <cp:revision>46</cp:revision>
  <dc:subject/>
  <dc:title>CAP Cryptographic Analysis Program</dc:title>
</cp:coreProperties>
</file>